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BB4-A137-4438-B47A-7B025EAE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D25-E0E2-4163-ABF5-E7D0BDE0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568-59AC-4F5F-B432-79180CD6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597-8926-4E8A-BF2E-BDBF9180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5D9-44CA-45F0-B6B1-9A949CDE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0DCB-E441-47F8-A44E-1315BDE4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F1F-6C1C-46E3-A606-F8B8691D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435-8063-4EC6-86D5-0AA294E8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7D7-9585-49F7-9287-3ED8CAF8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6A0-EC48-4216-A6DA-EBB9BF15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2BE-E785-4062-9999-0E0F7966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916-0380-47EA-BB1E-EFC9300E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9424-2F4E-4F82-BEC9-24BCE407E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273384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8320" y="533520"/>
            <a:ext cx="3809880" cy="27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77400" y="3773520"/>
            <a:ext cx="681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wo artwor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they alike?  How are the diffe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carefully 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st’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505320"/>
            <a:ext cx="29718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Untitl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Rowan LeComp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stained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30” x 3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c.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429000"/>
            <a:ext cx="35053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“Snake With Crest Shaped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Minnie Evans,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wax crayon, graphite, ink 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7” x 9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2432160" cy="2438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24280" y="838080"/>
            <a:ext cx="3353040" cy="2432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880" y="567864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Nine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 descriptive language, o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: line, shape, 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color, line, shape, stained glass, mixe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2963880" cy="2971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14800" y="930240"/>
            <a:ext cx="4114800" cy="29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317920" cy="5333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8720" y="5678640"/>
            <a:ext cx="841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rtwork is mad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ined g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Let’s look at it 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for a few minutes.  What do you no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494160" cy="3505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4640" y="4154400"/>
            <a:ext cx="810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ined glass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made by cutting colored glas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ing the cut pieces together with lead to make an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 makes the thick black lines that divide the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s are clear and bright because the light pa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colored 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494160" cy="3505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80" y="3962520"/>
            <a:ext cx="885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describ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person in the i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he or she appear to be doing?  Support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describe the overall shape of the i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apes do you see inside the i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494160" cy="3505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74280" y="4154400"/>
            <a:ext cx="826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ke the face and hair are painted onto the glas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lass is fired in a speci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the c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a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ined glass is most often seen in church windows an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419720" cy="3206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2560" y="3697200"/>
            <a:ext cx="811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rtwork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ed me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It was done with pencil, w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yon and 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describ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is art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you notice in this i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identif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257800" cy="3814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4038480"/>
            <a:ext cx="823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me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that both sides of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ou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metrical e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elements are not symmetr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419720" cy="3208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0560" y="3657600"/>
            <a:ext cx="8076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arts of this image can y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arts of this image are things you do not recogn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find in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think wa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st’s 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making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7T09:30:27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